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F49-B363-4811-9BD0-F8ACB9A1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CA5-0496-4F13-B357-108E01F0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547-F54A-47FB-82BE-0772E229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DC1-0606-4C96-9195-E4FDE669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7EE2-67E0-4BD3-AD27-EEF0280B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19AF-8DF9-4433-8B07-025A5923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64E2-687F-421A-8D1F-387DBDC9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D420-29C0-4CAB-BA19-CB4A8021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353F-A474-4213-AECA-9E7CABA4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2806-4847-4F8E-8149-F73ACCEA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69A6-47B7-45DB-8A1A-BB3992C6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EEB-9282-4997-AB22-65B1067A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A647-8B1F-47D1-8ED5-270BD7B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A19F-CD98-4D9B-904F-9DE1E269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30CB-FE01-4B83-A255-B63277C2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48D8-C092-43C3-B35D-3AF0F9A8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D17C-E7E6-4DF9-ABF5-A226D323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4CD-8551-48BA-8680-B1D60F07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36D-7296-451A-AD5A-4E85DD6D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EC6-013F-41BD-A3E0-ABB01143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D55-3B6C-4422-BB6F-83A99725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342-2462-41F7-A314-5149CFFA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947-492F-4FC6-800C-C7FC07BF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3AE-B467-4628-B403-1C4F43A1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183D-6BC1-42BC-BF2C-2C74F893BD7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E328-EA44-4E94-A999-7CB8C80837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Laws of Refra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ncident ray, normal line and refracted ray are in the same pla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ell’s Law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: for light refracting from any one medium to another, the ratio of the sine of the angle of incidence to the sine of the angle of refraction is a constant known as the </a:t>
            </a:r>
            <a:r>
              <a:rPr b="1" i="1" lang="en-US" sz="3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ndex of refraction,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32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, 2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n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2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e angle incidence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v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Lucida Grande"/>
                <a:ea typeface="Times New Roman"/>
              </a:rPr>
              <a:t>λ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 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sine angle refraction   v</a:t>
            </a:r>
            <a:r>
              <a:rPr b="0" i="1" lang="en-US" sz="32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     </a:t>
            </a:r>
            <a:r>
              <a:rPr b="0" i="1" lang="en-US" sz="3200" spc="-1" strike="noStrike">
                <a:solidFill>
                  <a:srgbClr val="ffffcc"/>
                </a:solidFill>
                <a:latin typeface="Lucida Grande"/>
                <a:ea typeface="Times New Roman"/>
              </a:rPr>
              <a:t>λ</a:t>
            </a:r>
            <a:r>
              <a:rPr b="0" i="1" lang="en-US" sz="32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xample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) What is the speed of light in water? Note: You only need to use that part of the formula that applies to this ques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air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3.00 x 10</a:t>
            </a:r>
            <a:r>
              <a:rPr b="0" i="1" lang="en-US" sz="2800" spc="-1" strike="noStrike" baseline="30000">
                <a:solidFill>
                  <a:srgbClr val="ffffcc"/>
                </a:solidFill>
                <a:latin typeface="Comic Sans MS"/>
                <a:ea typeface="Times New Roman"/>
              </a:rPr>
              <a:t>8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m/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H2O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air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1.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H20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1.3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,2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n</a:t>
            </a:r>
            <a:r>
              <a:rPr b="0" i="1" lang="en-US" sz="28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2 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v</a:t>
            </a:r>
            <a:r>
              <a:rPr b="0" i="1" lang="en-US" sz="28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.33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3.00 x 10</a:t>
            </a:r>
            <a:r>
              <a:rPr b="0" i="1" lang="en-US" sz="2800" spc="-1" strike="noStrike" u="sng" baseline="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8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 m/s=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2.26 x 10</a:t>
            </a:r>
            <a:r>
              <a:rPr b="0" i="1" lang="en-US" sz="2800" spc="-1" strike="noStrike" baseline="30000">
                <a:solidFill>
                  <a:srgbClr val="ffffcc"/>
                </a:solidFill>
                <a:latin typeface="Comic Sans MS"/>
                <a:ea typeface="Times New Roman"/>
              </a:rPr>
              <a:t>8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m/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  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1.00         v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H2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te:  If the speed is lower in the second medium the rays will bend towards the normal.  (the angle of refraction will be smaller than the angle of inciden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B) If the angle of incidence = 45º   What is the angle of refraction, when traveling from air into water? Note: you only need to use the part of the formula that applies to this ques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,2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of angle of inc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of angle of ref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.33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45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1.00     sin of the angle of ref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angle r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45º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32.1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1.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 when traveling from water back into ai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,2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of angle of inc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of angle of ref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.00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32.1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1.33     sin of the angle of ref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angle r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(1.33)(sin32.1º)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45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1.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Critical  Angl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For light rays passing from a substance of higher refractive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ndex to one of lower refractive index, there is a certain angle of incidence for which the refracted ray makes a right angle with the normal and comes out along the surface between the two media.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ny angle larger than this </a:t>
            </a:r>
            <a:r>
              <a:rPr b="1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ritical angle</a:t>
            </a:r>
            <a:r>
              <a:rPr b="0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will cause the light ray to show </a:t>
            </a:r>
            <a:r>
              <a:rPr b="1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tal internal reflection</a:t>
            </a:r>
            <a:r>
              <a:rPr b="0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.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hy does this happen when going from higher to lower but not when going from lower to higher?</a:t>
            </a:r>
            <a:r>
              <a:rPr b="0" i="1" lang="en-US" sz="5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Because the angle of refraction is greater than the angle of incidence</a:t>
            </a:r>
            <a:r>
              <a:rPr b="0" i="1" lang="en-US" sz="4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e formula for calculating the critical ang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critical angle 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n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2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 sin 90º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    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32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n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2 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of critical ang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32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sin of 90</a:t>
            </a:r>
            <a:r>
              <a:rPr b="0" i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90720" y="914400"/>
          <a:ext cx="72388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7238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xample:  What is the critical angle for light rays passing from diamond into wa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diamond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2.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water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1.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critical angle = </a:t>
            </a: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n</a:t>
            </a:r>
            <a:r>
              <a:rPr b="0" i="1" lang="en-US" sz="20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2</a:t>
            </a: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 sin 90º 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</a:t>
            </a: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.33 sin 90</a:t>
            </a: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=  0.5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0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i="1" lang="en-US" sz="20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2.4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ritical angle = 33.3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ample Proble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ir (n= 1.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leic acid (n = 1.4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ater (n = 1.3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arbon Disulfide (n = 1.6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ir (n= 1.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Given:  the angle of incidence from air into oleic acid is 36.9º and light ray continues through colum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g 400 # 7,8,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g 405 # 10,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tated Mathematically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  =  </a:t>
            </a:r>
            <a:r>
              <a:rPr b="0" i="1" lang="en-US" sz="4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of angle of incidence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of angle of refra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 is usually stated as n</a:t>
            </a:r>
            <a:r>
              <a:rPr b="0" i="1" lang="en-US" sz="40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,2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which means the index of refraction when traveling from substance 1 into substance 2.  “n</a:t>
            </a:r>
            <a:r>
              <a:rPr b="0" i="1" lang="en-US" sz="40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” is the substance you go “INTO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(note: n</a:t>
            </a:r>
            <a:r>
              <a:rPr b="0" i="1" lang="en-US" sz="4000" spc="-1" strike="noStrike" baseline="-25000">
                <a:solidFill>
                  <a:srgbClr val="ffffcc"/>
                </a:solidFill>
                <a:latin typeface="Comic Sans MS"/>
                <a:ea typeface="Times New Roman"/>
              </a:rPr>
              <a:t>2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nd INTO will   help you remember)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e following table gives indices of refraction for various substances (from air into substance)  Text has additional information 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g. 397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762120" y="685800"/>
          <a:ext cx="78483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78483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Why do light rays bend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</a:t>
            </a:r>
            <a:r>
              <a:rPr b="0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e light travels at a different velocity in each subst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“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” represents the number of times faster light travels in air than in the given substan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erefore, Snell’s Law is also proportional to the relative velocities of the substances, and therefore their wavelength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9:49:31Z</dcterms:created>
  <dc:creator>nbdoe</dc:creator>
  <dc:description/>
  <dc:language>en-US</dc:language>
  <cp:lastModifiedBy>School District 17</cp:lastModifiedBy>
  <dcterms:modified xsi:type="dcterms:W3CDTF">2008-12-15T15:17:27Z</dcterms:modified>
  <cp:revision>2</cp:revision>
  <dc:subject/>
  <dc:title>Laws of Refraction</dc:title>
</cp:coreProperties>
</file>